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09433"/>
        <c:axId val="90064017"/>
      </c:barChart>
      <c:catAx>
        <c:axId val="85109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64017"/>
        <c:crosses val="autoZero"/>
        <c:auto val="1"/>
        <c:lblAlgn val="ctr"/>
        <c:lblOffset val="100"/>
        <c:noMultiLvlLbl val="0"/>
      </c:catAx>
      <c:valAx>
        <c:axId val="90064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09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BAF-723B-4D2D-9A3D-CED8418A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EA3-0C2A-4280-A26A-0CB88D0F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4F6-CC97-4573-9449-A6C41788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462-0AE9-4D1A-B19F-4515C5B3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D9A-3C82-4A60-ACDA-1F0C48C2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EC4-A9E9-4849-AA27-17EDDFF8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7F3-5CE1-47C5-84AC-3B6C2CA6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69A-7819-4893-B420-9BF68A21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E72-DE9D-450D-AD66-67E14FA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AAE-3479-46E2-BBF3-36FAB8C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A41-91A6-42DA-A6D3-C24CC7C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152-61BF-4462-B748-968B5FD6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8184-1276-4268-ACEC-0B92B9C99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