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47596"/>
        <c:axId val="25849477"/>
      </c:barChart>
      <c:catAx>
        <c:axId val="24447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49477"/>
        <c:crosses val="autoZero"/>
        <c:auto val="1"/>
        <c:lblAlgn val="ctr"/>
        <c:lblOffset val="100"/>
        <c:noMultiLvlLbl val="0"/>
      </c:catAx>
      <c:valAx>
        <c:axId val="25849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47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156-6F60-4AC9-907F-92E16434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032-C199-478A-B317-85466C22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F3E-9711-46F3-8C45-DE4919A1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F36-D72A-4693-A3B1-BCA8C4B1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800-EA06-4463-81BA-6F3A73F8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B80-C6D6-4C69-B882-580EEB45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A00-EC87-478A-9B39-FC66168D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AF6-324E-4CD4-A909-6E7D1A69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92D-992A-4A28-9D21-8EBB6602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BCC-BEBE-4250-9FC5-B8C78301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9CC-044A-4455-9CB8-331B6D29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4AA-186D-43AC-A416-8B5E0541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350B5-A35C-4DD9-96A4-D514887AEE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