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5127"/>
        <c:axId val="36034763"/>
      </c:barChart>
      <c:catAx>
        <c:axId val="97305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34763"/>
        <c:crosses val="autoZero"/>
        <c:auto val="1"/>
        <c:lblAlgn val="ctr"/>
        <c:lblOffset val="100"/>
        <c:noMultiLvlLbl val="0"/>
      </c:catAx>
      <c:valAx>
        <c:axId val="36034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5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FBB-0F56-4A35-A356-BD24FDB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014-0C09-44E9-ABE2-85C1F05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4A2-64C6-407C-9DA5-DF83A39F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22B-64A8-4D72-A557-4FE040DD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109-B1B5-4A6D-B7D4-7A2D779B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B5C-8E52-44AD-9730-94940992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1FF-E0F5-402F-95EE-6E697B0A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729-BA78-40CA-8C3B-E5AAC50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1EE-821A-4EE4-9742-FAC18FEF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490-AFB1-45D7-9105-BA54009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CBE-84B8-4E56-9C46-CDED3110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898-B968-4B70-8340-A9049E40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F1B00-2311-484D-9988-0FCFFA2BD5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