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42241"/>
        <c:axId val="20759202"/>
      </c:barChart>
      <c:catAx>
        <c:axId val="68742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59202"/>
        <c:crosses val="autoZero"/>
        <c:auto val="1"/>
        <c:lblAlgn val="ctr"/>
        <c:lblOffset val="100"/>
        <c:noMultiLvlLbl val="0"/>
      </c:catAx>
      <c:valAx>
        <c:axId val="20759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42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931-B239-416A-82BD-5C2915EA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B09-D482-4449-9EC1-94BFAAA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9A2-B6B6-4317-813D-F18433F0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5AA-7C72-4E7F-9FCB-8C201115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B22-776B-4437-B3A1-845E7F35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CD3-5096-4141-B0BF-BEB01C9C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705-02BD-47D8-A335-72FD790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29C-4D18-4FAD-B7A4-C94A639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974-204B-443E-A6C8-63AADF2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2F2-5621-4E19-8863-807C7C5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AB8-4347-4E3C-9C05-3CC1105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ADA-60FE-413F-92E1-544F187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C02CC-9A3C-4A3A-BCFE-6AC855AD3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