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953385"/>
        <c:axId val="35196705"/>
      </c:barChart>
      <c:catAx>
        <c:axId val="179533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196705"/>
        <c:crosses val="autoZero"/>
        <c:auto val="1"/>
        <c:lblAlgn val="ctr"/>
        <c:lblOffset val="100"/>
        <c:noMultiLvlLbl val="0"/>
      </c:catAx>
      <c:valAx>
        <c:axId val="351967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9533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0C50-9D5C-4A68-80AA-9D49FFAF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B4FE-3A54-4298-89D4-CA41A5B6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8CEB-F688-4CED-A467-7B2290722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599E-0C4F-42A1-AD1C-1800E3C39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3DED-DA23-4E74-9B7F-D8410F9C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5F75-CED7-499B-B923-F6EC3DA3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8AE9-01D9-4298-B088-901460F4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79B4-57CA-4880-A400-88A56828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EFA4-4F4E-4897-A58C-CCF43D09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3B64-0547-4D7E-8735-93007EE6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DB63-A42F-434D-B551-A8A23E92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5E43-9828-4414-9B5F-6AD17DFB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476ECD-CF5E-4C4B-A4C7-32CCC0474A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