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78928"/>
        <c:axId val="20938873"/>
      </c:barChart>
      <c:catAx>
        <c:axId val="61878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8873"/>
        <c:crosses val="autoZero"/>
        <c:auto val="1"/>
        <c:lblAlgn val="ctr"/>
        <c:lblOffset val="100"/>
        <c:noMultiLvlLbl val="0"/>
      </c:catAx>
      <c:valAx>
        <c:axId val="20938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78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031-61E1-4C5A-BB32-49D88F5C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BDB-D310-4C0C-919D-86B583E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2A5-3DD4-4949-B6BC-4B99061B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431-67A5-489A-9F05-07CE70AF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92D-5AD2-454E-A4FC-8438D78B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C77-759C-4BC6-BBA9-C8920C67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55E-8C95-450B-A365-7D179C6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338-760C-4968-85E7-F477BFF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AC5-E910-4B67-B2EF-50B4BF09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40C-34B7-4375-927D-A89F0CF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ACF-693E-4D3C-AD3B-A8E98E3D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420-16BB-4C42-B26E-69665D5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7A70B-70B6-42F4-9B78-081B4CC953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