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36744"/>
        <c:axId val="75099798"/>
      </c:barChart>
      <c:catAx>
        <c:axId val="927367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99798"/>
        <c:crosses val="autoZero"/>
        <c:auto val="1"/>
        <c:lblAlgn val="ctr"/>
        <c:lblOffset val="100"/>
        <c:noMultiLvlLbl val="0"/>
      </c:catAx>
      <c:valAx>
        <c:axId val="75099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367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DFA0-0051-4979-A4AB-A5907E96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F62-E3DC-4C14-A08E-09CD796B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CEB-EA4E-4A8B-ADC3-A173504C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76A-E175-47E9-A4A7-28FE311F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223-CE0D-41AF-90B4-0FBF712F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687-C637-4835-8277-632388AC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937-B777-4364-9F4C-EC306552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FB9-A0AD-438B-AFF5-7A62756B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55DC-968D-4838-89E4-437CCA33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0B7-D208-4C5B-B06F-063E5241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832-F988-449C-B8C7-85EC2599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3CF-F4C0-4AA1-B733-4B8E717F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2D602-26EB-4023-BDC7-4BB640AF20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