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39938"/>
        <c:axId val="58191650"/>
      </c:barChart>
      <c:catAx>
        <c:axId val="44539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1650"/>
        <c:crosses val="autoZero"/>
        <c:auto val="1"/>
        <c:lblAlgn val="ctr"/>
        <c:lblOffset val="100"/>
        <c:noMultiLvlLbl val="0"/>
      </c:catAx>
      <c:valAx>
        <c:axId val="58191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39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65B-6709-4105-9810-835AF653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10C-BBA3-4FCD-8BEE-A480A6CE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4F2-6B4C-4006-A2DF-37EB2843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BB6-606D-4C8C-B096-6627D991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E16-5FAE-4D03-A834-3D468BF4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1C6-979D-43FD-9A81-B10CA731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B65-8B25-4371-9013-9445DA61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40D-D64C-426D-A5A3-B7BB600F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530-F97D-4F7C-8010-AE0DB389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E31-3BC3-46FD-AB79-84C0077A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C93-D8FA-4B9F-B13A-540C095B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12B-6FDA-4583-AE8A-25B29C79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AE3D-BAD0-4A27-85AC-19FE2069C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