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851414"/>
        <c:axId val="74586748"/>
      </c:barChart>
      <c:catAx>
        <c:axId val="47851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86748"/>
        <c:crosses val="autoZero"/>
        <c:auto val="1"/>
        <c:lblAlgn val="ctr"/>
        <c:lblOffset val="100"/>
        <c:noMultiLvlLbl val="0"/>
      </c:catAx>
      <c:valAx>
        <c:axId val="74586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51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038-5CF3-43C5-A596-3B8D588C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BC4-B19D-4108-A493-FADD45AA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DBDE-F945-4EFF-90FE-CA35F41A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2EF-919A-4CF9-9416-2E863DB8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5B27-ABCA-48E9-BBA6-47244DBB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9869-30CD-40C3-9232-61DE2690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BD6-0F71-48EB-B5F2-014E40C9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D0B-9756-4A2A-A400-D80A1770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BE9-FAFA-4479-B532-9D46383A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24E-9BA5-450A-8162-B297E477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86F7-4C49-4464-B54A-81369B69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8CF3-5940-4445-A8C5-CDA039DB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09788-1F1F-47AF-8481-E0367EA69A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